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08EEA-6957-47F9-8495-C2F4AA4863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 and Leadership Develop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r. Anders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over Middle Schoo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and Leadership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And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over Middle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lf-Discipli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nking about your words and actions and then making choices that are right for you and oth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cept that things will not always go your wa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ish chores before play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ing about your words and actions and then making choices that are right for you and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 that things will not always go your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 chores before play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ines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ther people can count on you to do the right th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turn things you borrow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thers can count on you to do what you say you will d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people can count on you to do the right 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hings you bor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s can count on you to do what you say you will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12 Powerful Wor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lyz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f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alua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ula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crib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ppor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plai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mmariz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ras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dic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12 Powerful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i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itizenshi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eys the ru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ing to make the community a better pl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tize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eys the r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ing to make the community a better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s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ing kind and thoughtful towards oth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lping oth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ing kind things for oth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kind and thoughtful towards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ing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ing kind things for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irnes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ing tur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ar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stening to what others have to sa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ing tu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ening to what others have to 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nes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ing truthful and since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ing your own wor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turn things that belong to oth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es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truthful and sinc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ing your own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hings that belong to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gr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king choices that help you be the best person you can b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what you think is righ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at being the best you can b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choices that help you be the best person you can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what you think is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 at being the best you can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everan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ing hard and not giving u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ick with something and not give u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ing hard and not giving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ck with something and not give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ec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eating others the way you would want to be tre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king permission before using someone else’s thing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ing others the way you would want to be tre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ing permission before using someone else’s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onsibi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ing dependable and making good choic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e care of things that belong to you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e care of yourself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dependable and making good cho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care of things that belong to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care of y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3934-2377-481B-8D52-382F103C7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4E4A-3343-4E0C-89D4-55B964282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BB98-7C3D-498E-AA54-75B5CB9AB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D74D-FD1E-4960-9BB7-27047D9AC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CE138E-A74A-47EA-A5E7-0E7D29815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7363BB-00B4-4585-B363-70B7E2C39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CB1FB5-0F60-43ED-AD88-4F9570D34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AD5690-727C-475F-912B-6627882F7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890431-BD91-42B8-AE17-AFB272DE6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0BD629-2860-44B5-8E87-339449F65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D1EACC-72B8-426D-A9AE-23E8FE9A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01EE-9B33-4353-BAF8-4191E4D01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603D5C-E1C9-4718-87A2-5C362D47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43165E-CAB5-4ACB-8589-F9958780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AB22FA-045D-4ABF-AC34-596EFF0D1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BE8148-FE0E-4D43-9E6B-5274CB9A5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2A16A9-6856-4760-88E2-6C711C357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6C13-1E3C-47B5-818A-80B6A3579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BBE9-A7EF-49BC-A709-4112D52EB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AB4E-24B6-4596-ACB6-CCC0839EB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B004-817A-40C3-881D-6DB41A16E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E493-7F99-47A4-BB52-93B5C5B4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A1A4-39BC-4A0B-A5C2-56C53BF2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DE79-95A6-4419-ADBD-2F38E0A4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8064C-BA19-46A4-A875-4A34BB31FE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E944A-73C0-4C16-BEA5-51307D2DABF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haracter and Leadership Developmen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r. Ander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over Middle Scho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elf-Disciplin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nking about your words and actions and then making choices that are right for you and ot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cept that things will not always go your w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nish chores before play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5" descr="j0195384"/>
          <p:cNvPicPr/>
          <p:nvPr/>
        </p:nvPicPr>
        <p:blipFill>
          <a:blip r:embed="rId1"/>
          <a:stretch/>
        </p:blipFill>
        <p:spPr>
          <a:xfrm>
            <a:off x="4952880" y="1598760"/>
            <a:ext cx="350532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rustworthines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her people can count on you to do the right th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turn things you borr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hers can count on you to do what you say you will 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5" descr="j0090070"/>
          <p:cNvPicPr/>
          <p:nvPr/>
        </p:nvPicPr>
        <p:blipFill>
          <a:blip r:embed="rId1"/>
          <a:stretch/>
        </p:blipFill>
        <p:spPr>
          <a:xfrm>
            <a:off x="4724280" y="1447920"/>
            <a:ext cx="396252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12 Powerful Wor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a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alyz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f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valu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mul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scri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pp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pla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mmariz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a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ra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di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9" descr="j0301252"/>
          <p:cNvPicPr/>
          <p:nvPr/>
        </p:nvPicPr>
        <p:blipFill>
          <a:blip r:embed="rId1"/>
          <a:stretch/>
        </p:blipFill>
        <p:spPr>
          <a:xfrm>
            <a:off x="3505320" y="1447920"/>
            <a:ext cx="51051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itizenshi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eys the ru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ing to make the community a better pl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8" descr="j0233018"/>
          <p:cNvPicPr/>
          <p:nvPr/>
        </p:nvPicPr>
        <p:blipFill>
          <a:blip r:embed="rId1"/>
          <a:stretch/>
        </p:blipFill>
        <p:spPr>
          <a:xfrm>
            <a:off x="4648320" y="1371600"/>
            <a:ext cx="3962160" cy="42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mpass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ing kind and thoughtful towards ot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lping ot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ing kind things for ot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5" descr="j0216724"/>
          <p:cNvPicPr/>
          <p:nvPr/>
        </p:nvPicPr>
        <p:blipFill>
          <a:blip r:embed="rId1"/>
          <a:stretch/>
        </p:blipFill>
        <p:spPr>
          <a:xfrm>
            <a:off x="4648320" y="1527120"/>
            <a:ext cx="380988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airnes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king tur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ar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stening to what others have to s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5" descr="j0300840"/>
          <p:cNvPicPr/>
          <p:nvPr/>
        </p:nvPicPr>
        <p:blipFill>
          <a:blip r:embed="rId1"/>
          <a:stretch/>
        </p:blipFill>
        <p:spPr>
          <a:xfrm>
            <a:off x="4267080" y="1141560"/>
            <a:ext cx="411480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nes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ing truthful and since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ing your own 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turn things that belong to ot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5" descr="j0293844"/>
          <p:cNvPicPr/>
          <p:nvPr/>
        </p:nvPicPr>
        <p:blipFill>
          <a:blip r:embed="rId1"/>
          <a:stretch/>
        </p:blipFill>
        <p:spPr>
          <a:xfrm>
            <a:off x="4876920" y="762120"/>
            <a:ext cx="3581280" cy="41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tegr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king choices that help you be the best person you can b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what you think is rig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 at being the best you can b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5" descr="j0215086"/>
          <p:cNvPicPr/>
          <p:nvPr/>
        </p:nvPicPr>
        <p:blipFill>
          <a:blip r:embed="rId1"/>
          <a:stretch/>
        </p:blipFill>
        <p:spPr>
          <a:xfrm>
            <a:off x="4952880" y="1214280"/>
            <a:ext cx="342900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erseveran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ing hard and not giving u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ick with something and not give u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5" descr="j0199549"/>
          <p:cNvPicPr/>
          <p:nvPr/>
        </p:nvPicPr>
        <p:blipFill>
          <a:blip r:embed="rId1"/>
          <a:stretch/>
        </p:blipFill>
        <p:spPr>
          <a:xfrm>
            <a:off x="4952880" y="1693800"/>
            <a:ext cx="3505320" cy="36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spec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eating others the way you would want to be trea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king permission before using someone else’s th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5" descr="j0297551"/>
          <p:cNvPicPr/>
          <p:nvPr/>
        </p:nvPicPr>
        <p:blipFill>
          <a:blip r:embed="rId1"/>
          <a:stretch/>
        </p:blipFill>
        <p:spPr>
          <a:xfrm>
            <a:off x="5181480" y="1603440"/>
            <a:ext cx="312444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sponsibi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ing dependable and making good choi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ke care of things that belong to y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ke care of yoursel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5" descr="j0195812"/>
          <p:cNvPicPr/>
          <p:nvPr/>
        </p:nvPicPr>
        <p:blipFill>
          <a:blip r:embed="rId1"/>
          <a:stretch/>
        </p:blipFill>
        <p:spPr>
          <a:xfrm>
            <a:off x="4952880" y="1146240"/>
            <a:ext cx="3581640" cy="40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3T03:04:56Z</dcterms:created>
  <dc:creator>OKCPS</dc:creator>
  <dc:description/>
  <dc:language>en-US</dc:language>
  <cp:lastModifiedBy>RomaK</cp:lastModifiedBy>
  <dcterms:modified xsi:type="dcterms:W3CDTF">2015-09-02T09:33:09Z</dcterms:modified>
  <cp:revision>7</cp:revision>
  <dc:subject/>
  <dc:title>Character and Leadership Development</dc:title>
</cp:coreProperties>
</file>